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396-D11D-4477-9EF8-679B52DD8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9A41-5F78-4991-A526-A9771591F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7329-2B5A-42CA-B8D2-A64FEE9E5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8F4-A7C8-42CA-A0CA-42DC42267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3D60-7EA4-4EC4-A0F8-5EEF0B04F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559-0D97-4CC1-8D6B-009B9E260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41F-B223-4D2D-9FE4-D4B011B2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351A-B33C-4DCA-A59E-2E02FD35A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835B-DEF0-44F3-A1C2-EAF4AD70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95F6-1449-4F44-9BE4-621C897B6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3664-A111-44CC-98CF-E4F057DE5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5B5-FAF1-4F89-8F63-3761B5B75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037-91E7-4F86-A83B-40151F9A1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341-41D7-416C-870E-0568D1C80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F15F-B965-4295-9F94-285C6352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3D3-0784-4737-B96C-91356D41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59EF-4EB4-409E-8D89-E135C6C7C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691-A2B3-4EAB-8DB5-0CC8A7CA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193-4CC1-4458-A285-7D352FA6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D27-5A58-464E-A11F-746B5881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D75-DB1C-4C53-B016-DD72E090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A93-76FF-467C-8BED-E1F1A199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5F0-48B4-4341-9DE4-9FD9656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D04-E69E-4F6E-B43C-A7A5A13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B3A-C94D-4C96-A855-C46424C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563-FD9E-4ECF-A81A-AEB8B11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F1B-3C42-4630-ADCB-B406D93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885-2E88-413E-83D6-62B6A659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439-4D8D-4AE3-A5F2-F524E8DC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C433-BCA4-4E16-8AD8-A688E315131D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9A1-D475-4DD5-997C-3699D8DA5E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764-705C-4C1F-B7F3-A1040E1779B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Year 12 What you should know alread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0" name="Picture 20" descr="Glucose"/>
          <p:cNvPicPr/>
          <p:nvPr/>
        </p:nvPicPr>
        <p:blipFill>
          <a:blip r:embed="rId1"/>
          <a:stretch/>
        </p:blipFill>
        <p:spPr>
          <a:xfrm>
            <a:off x="6156360" y="4149720"/>
            <a:ext cx="26272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67E-FD80-4B2A-84DB-1E3792327B2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24852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Arc 3"/>
          <p:cNvSpPr/>
          <p:nvPr/>
        </p:nvSpPr>
        <p:spPr>
          <a:xfrm flipV="1" rot="2700000">
            <a:off x="6781680" y="144720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ome simple compounds…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28600" y="990720"/>
            <a:ext cx="2514600" cy="2178720"/>
            <a:chOff x="228600" y="990720"/>
            <a:chExt cx="2514600" cy="2178720"/>
          </a:xfrm>
        </p:grpSpPr>
        <p:sp>
          <p:nvSpPr>
            <p:cNvPr id="111" name="Text Box 6"/>
            <p:cNvSpPr/>
            <p:nvPr/>
          </p:nvSpPr>
          <p:spPr>
            <a:xfrm>
              <a:off x="228600" y="990720"/>
              <a:ext cx="2514600" cy="217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ethane, C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12" name="Object 7"/>
            <p:cNvGraphicFramePr/>
            <p:nvPr/>
          </p:nvGraphicFramePr>
          <p:xfrm>
            <a:off x="533520" y="990720"/>
            <a:ext cx="1752480" cy="173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75248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Rectangle 8"/>
          <p:cNvSpPr/>
          <p:nvPr/>
        </p:nvSpPr>
        <p:spPr>
          <a:xfrm>
            <a:off x="3200400" y="990720"/>
            <a:ext cx="2514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733920" y="1905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Line 10"/>
          <p:cNvSpPr/>
          <p:nvPr/>
        </p:nvSpPr>
        <p:spPr>
          <a:xfrm flipH="1">
            <a:off x="3962520" y="1600200"/>
            <a:ext cx="3045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4800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191e4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4572000" y="1600200"/>
            <a:ext cx="30492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429000" y="26668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ater,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rc 14"/>
          <p:cNvSpPr/>
          <p:nvPr/>
        </p:nvSpPr>
        <p:spPr>
          <a:xfrm rot="18900000">
            <a:off x="6781320" y="13716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Arc 15"/>
          <p:cNvSpPr/>
          <p:nvPr/>
        </p:nvSpPr>
        <p:spPr>
          <a:xfrm rot="18900000">
            <a:off x="7772400" y="1447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rc 16"/>
          <p:cNvSpPr/>
          <p:nvPr/>
        </p:nvSpPr>
        <p:spPr>
          <a:xfrm flipV="1" rot="2700000">
            <a:off x="7772040" y="15238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7238880" y="137160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c2c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6324480" y="2209680"/>
            <a:ext cx="2210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bon dioxide,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3352680"/>
            <a:ext cx="25146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57200" y="5029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thyne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7" name="Object 21"/>
          <p:cNvGraphicFramePr/>
          <p:nvPr/>
        </p:nvGraphicFramePr>
        <p:xfrm>
          <a:off x="304920" y="4038480"/>
          <a:ext cx="2361960" cy="41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23619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Group 22"/>
          <p:cNvGrpSpPr/>
          <p:nvPr/>
        </p:nvGrpSpPr>
        <p:grpSpPr>
          <a:xfrm>
            <a:off x="3200400" y="3352680"/>
            <a:ext cx="2514600" cy="3048120"/>
            <a:chOff x="3200400" y="3352680"/>
            <a:chExt cx="2514600" cy="3048120"/>
          </a:xfrm>
        </p:grpSpPr>
        <p:sp>
          <p:nvSpPr>
            <p:cNvPr id="130" name="Rectangle 23"/>
            <p:cNvSpPr/>
            <p:nvPr/>
          </p:nvSpPr>
          <p:spPr>
            <a:xfrm>
              <a:off x="3200400" y="3352680"/>
              <a:ext cx="2514600" cy="30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31" name="Object 24"/>
            <p:cNvGraphicFramePr/>
            <p:nvPr/>
          </p:nvGraphicFramePr>
          <p:xfrm>
            <a:off x="3504960" y="3429000"/>
            <a:ext cx="1811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3429000"/>
                      <a:ext cx="1811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25"/>
            <p:cNvSpPr/>
            <p:nvPr/>
          </p:nvSpPr>
          <p:spPr>
            <a:xfrm>
              <a:off x="3429000" y="5334120"/>
              <a:ext cx="22096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ulphuric acid, 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4" name="Oval 26"/>
          <p:cNvSpPr/>
          <p:nvPr/>
        </p:nvSpPr>
        <p:spPr>
          <a:xfrm>
            <a:off x="81532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6324480" y="14479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Oval 28"/>
          <p:cNvSpPr/>
          <p:nvPr/>
        </p:nvSpPr>
        <p:spPr>
          <a:xfrm>
            <a:off x="4114800" y="1295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c2e1c2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9"/>
          <p:cNvGrpSpPr/>
          <p:nvPr/>
        </p:nvGrpSpPr>
        <p:grpSpPr>
          <a:xfrm>
            <a:off x="6172200" y="3276720"/>
            <a:ext cx="2743200" cy="3393000"/>
            <a:chOff x="6172200" y="3276720"/>
            <a:chExt cx="2743200" cy="3393000"/>
          </a:xfrm>
        </p:grpSpPr>
        <p:grpSp>
          <p:nvGrpSpPr>
            <p:cNvPr id="138" name="Group 30"/>
            <p:cNvGrpSpPr/>
            <p:nvPr/>
          </p:nvGrpSpPr>
          <p:grpSpPr>
            <a:xfrm>
              <a:off x="6172200" y="3962520"/>
              <a:ext cx="609480" cy="2666880"/>
              <a:chOff x="6172200" y="3962520"/>
              <a:chExt cx="609480" cy="2666880"/>
            </a:xfrm>
          </p:grpSpPr>
          <p:sp>
            <p:nvSpPr>
              <p:cNvPr id="139" name="Oval 31"/>
              <p:cNvSpPr/>
              <p:nvPr/>
            </p:nvSpPr>
            <p:spPr>
              <a:xfrm>
                <a:off x="6400440" y="396252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191e4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248160" y="449568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c2e1c2"/>
                  </a:gs>
                  <a:gs pos="100000">
                    <a:srgbClr val="008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6172200" y="52578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c2c2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2" name="Oval 34"/>
              <p:cNvSpPr/>
              <p:nvPr/>
            </p:nvSpPr>
            <p:spPr>
              <a:xfrm>
                <a:off x="6172200" y="60199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e7ce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3" name="Text Box 35"/>
            <p:cNvSpPr/>
            <p:nvPr/>
          </p:nvSpPr>
          <p:spPr>
            <a:xfrm>
              <a:off x="6705360" y="327672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omic Sans MS"/>
                </a:rPr>
                <a:t>Key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Text Box 36"/>
            <p:cNvSpPr/>
            <p:nvPr/>
          </p:nvSpPr>
          <p:spPr>
            <a:xfrm>
              <a:off x="7010280" y="3809880"/>
              <a:ext cx="1905120" cy="28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ydro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rbon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ulphu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265-D84E-4082-ADB8-753D451560AA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imple formulae to lear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71280" y="1412640"/>
            <a:ext cx="68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What do the numbers mean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3 N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mic Sans MS"/>
              </a:rPr>
              <a:t>How many atoms of each type are there in: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P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(CO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NZ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NZ" sz="36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CF0E-0B16-45A2-B3F0-19397A18EAD9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ff"/>
                </a:solidFill>
                <a:latin typeface="Comic Sans MS"/>
              </a:rPr>
              <a:t>Balancing Reactions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187280" y="1413000"/>
            <a:ext cx="6912000" cy="5021280"/>
            <a:chOff x="1187280" y="1413000"/>
            <a:chExt cx="6912000" cy="5021280"/>
          </a:xfrm>
        </p:grpSpPr>
        <p:grpSp>
          <p:nvGrpSpPr>
            <p:cNvPr id="157" name="Group 4"/>
            <p:cNvGrpSpPr/>
            <p:nvPr/>
          </p:nvGrpSpPr>
          <p:grpSpPr>
            <a:xfrm>
              <a:off x="1187280" y="1413000"/>
              <a:ext cx="6912000" cy="5021280"/>
              <a:chOff x="1187280" y="1413000"/>
              <a:chExt cx="6912000" cy="5021280"/>
            </a:xfrm>
          </p:grpSpPr>
          <p:sp>
            <p:nvSpPr>
              <p:cNvPr id="158" name="Text Box 5"/>
              <p:cNvSpPr/>
              <p:nvPr/>
            </p:nvSpPr>
            <p:spPr>
              <a:xfrm>
                <a:off x="1187280" y="1413000"/>
                <a:ext cx="2989440" cy="50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    +    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OH    +    HCl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OH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3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H    +    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        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Text Box 6"/>
              <p:cNvSpPr/>
              <p:nvPr/>
            </p:nvSpPr>
            <p:spPr>
              <a:xfrm>
                <a:off x="5219640" y="1413000"/>
                <a:ext cx="2879640" cy="47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Mg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ZnCl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FeCl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NaCl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a(OH)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Na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SO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4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cc66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cc66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CO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    +    H</a:t>
                </a:r>
                <a:r>
                  <a:rPr b="0" lang="en-GB" sz="24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O</a:t>
                </a: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4427640" y="1628640"/>
                <a:ext cx="431640" cy="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61" name="Line 8"/>
            <p:cNvSpPr/>
            <p:nvPr/>
          </p:nvSpPr>
          <p:spPr>
            <a:xfrm>
              <a:off x="4427640" y="220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427640" y="278136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4427640" y="32846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4427640" y="386064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4427640" y="43657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4427640" y="4941720"/>
              <a:ext cx="431640" cy="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4427640" y="544500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8" name="Text Box 15"/>
          <p:cNvSpPr/>
          <p:nvPr/>
        </p:nvSpPr>
        <p:spPr>
          <a:xfrm>
            <a:off x="1042920" y="1413000"/>
            <a:ext cx="2952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      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5003640" y="1413000"/>
            <a:ext cx="2448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      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      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437-3AB4-45ED-B937-4355823C5C5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611280" y="1268280"/>
            <a:ext cx="79930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calcium carbonate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C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bubbling it through limewater ( a solution of Ca(OH)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) and observing the solution go milk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6D0-17B9-4B6D-BE37-FEC5AE17CE75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H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11280" y="1268280"/>
            <a:ext cx="7993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Add Mg to some acid eg HCl or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SO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igniting the gas using the pop t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06D7-78CE-40A9-9A2C-195EC097E7C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68360" y="404640"/>
            <a:ext cx="84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4360" y="54936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could you produc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in the lab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1268280"/>
            <a:ext cx="7993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manganese dioxide and hydrogen peroxide in a test tube produces oxygen ga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How would you test for the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 ga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By placing a glowing splint into the tube and seeing if it would relight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9BE-2E7F-4B7B-86C1-81DF81B0B2D0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lements and symbol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139-B2C1-45C0-BC77-3DD373C35F4C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ff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AE1-C5BF-45CD-B0C6-54CD8E54E7EF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99ccff"/>
                </a:solidFill>
                <a:latin typeface="Comic Sans MS"/>
              </a:rPr>
              <a:t>What is an ion?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An anion is an atom that has gained electron(s) to form a (-) ion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Cl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Chloride)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-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ulf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or a cation is an atom that has lost electron(s) to form a (+) 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e.g  Na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Sodium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2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 (ll) ion) (aka Ferric ion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Fe</a:t>
            </a:r>
            <a:r>
              <a:rPr b="0" lang="en-NZ" sz="3200" spc="-1" strike="noStrike" baseline="30000">
                <a:solidFill>
                  <a:srgbClr val="ffffff"/>
                </a:solidFill>
                <a:latin typeface="Comic Sans MS"/>
              </a:rPr>
              <a:t>3+ </a:t>
            </a: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(iron(lll) ion ) (Ferrou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570-8229-471C-93DC-2895CC416DEE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formula for Ions that you should know: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0" y="1844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ccccff"/>
                </a:solidFill>
                <a:latin typeface="Comic Sans MS"/>
              </a:rPr>
              <a:t>Write the ion or name beside the follow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256716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rbon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Magnes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xid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ulpha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od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Iron (ll)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716360" y="2567160"/>
            <a:ext cx="2743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OH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l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i="1" lang="en-NZ" sz="24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 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Pb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Ca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Comic Sans MS"/>
              </a:rPr>
              <a:t>Fe </a:t>
            </a:r>
            <a:r>
              <a:rPr b="0" i="1" lang="en-NZ" sz="2400" spc="-1" strike="noStrike" baseline="30000">
                <a:solidFill>
                  <a:srgbClr val="ffffff"/>
                </a:solidFill>
                <a:latin typeface="Comic Sans MS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987640" y="2565360"/>
            <a:ext cx="129708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H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Li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Mg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0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O</a:t>
            </a:r>
            <a:r>
              <a:rPr b="1" i="1" lang="en-NZ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Na </a:t>
            </a:r>
            <a:r>
              <a:rPr b="1" i="1" lang="en-GB" sz="24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Fe </a:t>
            </a:r>
            <a:r>
              <a:rPr b="1" i="1" lang="en-NZ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00880" y="2565360"/>
            <a:ext cx="264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Sulph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hlorid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Nitrate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Alumin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Lead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alcium 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Iron (lll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A08-A68F-47BF-808E-8E859280D397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260280"/>
            <a:ext cx="88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Atoms and eleme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A substance made of one type of atom is called an ele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ccff"/>
                </a:solidFill>
                <a:latin typeface="Comic Sans MS"/>
              </a:rPr>
              <a:t>e.g. a piece of Aluminium (symbol Al) consists of only aluminium atoms bonded together and is called an </a:t>
            </a:r>
            <a:r>
              <a:rPr b="1" lang="en-NZ" sz="3200" spc="-1" strike="noStrike" u="sng">
                <a:solidFill>
                  <a:srgbClr val="66ff33"/>
                </a:solidFill>
                <a:uFillTx/>
                <a:latin typeface="Comic Sans MS"/>
              </a:rPr>
              <a:t>eleme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AD0-79FA-42C9-8562-BF4CD2DD5C62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Some elements are unstable as single atoms and only exist as 2 atoms bonded together to form a </a:t>
            </a: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molecule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These are usually g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.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, N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Cl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C9B-4842-4FAB-96F7-9FAA774EE3A3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Compounds and Molecul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772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Some compounds are molecules that contain 2 or more </a:t>
            </a: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different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atoms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covalently bonded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 together. Some common molecular compounds are: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carbon dioxide)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(water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methan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12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(glucos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236-C5BC-4E5A-BA97-E7F4B8469C66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Naming compound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79280" y="1916280"/>
            <a:ext cx="9361080" cy="3442320"/>
            <a:chOff x="179280" y="1916280"/>
            <a:chExt cx="9361080" cy="3442320"/>
          </a:xfrm>
        </p:grpSpPr>
        <p:sp>
          <p:nvSpPr>
            <p:cNvPr id="92" name="Text Box 5"/>
            <p:cNvSpPr/>
            <p:nvPr/>
          </p:nvSpPr>
          <p:spPr>
            <a:xfrm>
              <a:off x="179280" y="1916280"/>
              <a:ext cx="936108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ame the following elements 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5379840" y="3076920"/>
              <a:ext cx="416052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95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97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0" name="Text Box 13"/>
          <p:cNvSpPr/>
          <p:nvPr/>
        </p:nvSpPr>
        <p:spPr>
          <a:xfrm>
            <a:off x="1403280" y="299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0328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476360" y="414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516720" y="3645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443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flour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588000" y="4149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51:44Z</dcterms:created>
  <dc:creator>W Richards</dc:creator>
  <dc:description/>
  <dc:language>en-US</dc:language>
  <cp:lastModifiedBy>David</cp:lastModifiedBy>
  <dcterms:modified xsi:type="dcterms:W3CDTF">2011-02-01T07:57:05Z</dcterms:modified>
  <cp:revision>437</cp:revision>
  <dc:subject/>
  <dc:title>What you will need to remember from year 10…</dc:title>
</cp:coreProperties>
</file>